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895-475E-4BC2-A503-E8F388C6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A6A-AFE4-49A9-9605-7147DDED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1E9-5EBA-46EA-B904-4CC18EE7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B94-B108-4E63-A756-C9715043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AD07-7886-422B-8078-40BE7629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39D5-E61D-48EF-AE08-439279F4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F435-E908-43D6-8C68-A83D5636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E9B8-23F8-4F2B-B52D-7D97F6C0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C519-08C3-4D36-B0F4-020104CD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8104-5B20-4D31-865A-F052308A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325E-42C3-4ED5-8C33-7714AC01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FB3-20F9-4093-A6F4-B71C80EB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9A63-D8F0-46E8-ACC5-F40C3F4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77A4-E18C-48EE-BF32-D31B1CD0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0561-6030-47FA-B6AA-3891012C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CA3B-73B9-4B85-99B8-2E55750A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D7C9-7593-403A-BD88-D070E1C9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12D-48D4-47E6-8E8B-A941F607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344-05AD-4FCB-B008-7827A79B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945-DD14-4798-96E4-AF0B4F6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728-AB89-4E33-9B16-AB2E1405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818-E886-4D2E-925B-3452F879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E23-988F-4C8C-B26A-27902994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D6F-BA79-4F7A-832D-42D3857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9EE0-E8AC-4552-86FF-FC2151B8999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06AF-1B16-43A7-B9C7-6D6CFC45919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YPES OF 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553080" cy="414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48240" y="6400800"/>
            <a:ext cx="32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4 - 2005.  M. J. Krech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22cd"/>
                </a:solidFill>
                <a:latin typeface="Lucida Grande"/>
              </a:rPr>
              <a:t>GLACIERS</a:t>
            </a:r>
            <a:endParaRPr b="1" lang="en-US" sz="4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3353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GLACIER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 a large mass of  moving ice and      snow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1280" y="2082960"/>
            <a:ext cx="5105520" cy="339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IN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ind moves soil by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DEFLATIO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wind removes loose material from the lan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91120" y="2462040"/>
            <a:ext cx="4495680" cy="304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251240" y="5715000"/>
            <a:ext cx="40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ere smaller sand grains are bl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way from around larger ro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22cd"/>
                </a:solidFill>
                <a:latin typeface="Lucida Grande"/>
              </a:rPr>
              <a:t>WATER</a:t>
            </a:r>
            <a:endParaRPr b="1" lang="en-US" sz="5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Running water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is the major cause of erosi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ater picks up and carries loose particles of soil as it moves downhill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70520" y="1874880"/>
            <a:ext cx="339408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22cd"/>
                </a:solidFill>
                <a:latin typeface="Lucida Grande"/>
              </a:rPr>
              <a:t>WATER</a:t>
            </a:r>
            <a:endParaRPr b="1" lang="en-US" sz="5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3353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ter  starts out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 tiny groove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ll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RILL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4214520" cy="449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22cd"/>
                </a:solidFill>
                <a:latin typeface="Lucida Grande"/>
              </a:rPr>
              <a:t>WATER</a:t>
            </a:r>
            <a:endParaRPr b="1" lang="en-US" sz="5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ills become wider and deeper,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ll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GULLI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4572000" cy="3036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AT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ullies turn i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STREAM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ich turn i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RIVER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24180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22cd"/>
                </a:solidFill>
                <a:latin typeface="Lucida Grande"/>
              </a:rPr>
              <a:t>WAVES</a:t>
            </a:r>
            <a:endParaRPr b="1" lang="en-US" sz="5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2819520"/>
            <a:ext cx="396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aves carry off small rocks and sand from the beach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400"/>
          <a:stretch/>
        </p:blipFill>
        <p:spPr>
          <a:xfrm>
            <a:off x="3657600" y="2362320"/>
            <a:ext cx="525780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81916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agent of erosion in this pictur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swer on next slide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339408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756080" y="208440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3352320"/>
            <a:ext cx="3809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is the agent of erosion in this pictur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. Wat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" name=""/>
          <p:cNvSpPr/>
          <p:nvPr/>
        </p:nvSpPr>
        <p:spPr>
          <a:xfrm>
            <a:off x="1737720" y="2084400"/>
            <a:ext cx="5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480060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358164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agent of erosion in   this pictur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Gra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"/>
          <p:cNvSpPr/>
          <p:nvPr/>
        </p:nvSpPr>
        <p:spPr>
          <a:xfrm>
            <a:off x="1761120" y="208440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86200" y="2414520"/>
            <a:ext cx="4800600" cy="30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22cd"/>
                </a:solidFill>
                <a:latin typeface="Lucida Grande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5400" spc="-1" strike="noStrike">
                <a:solidFill>
                  <a:srgbClr val="1822cd"/>
                </a:solidFill>
                <a:latin typeface="Lucida Grande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22cd"/>
                </a:solidFill>
                <a:latin typeface="Lucida Grande"/>
              </a:rPr>
              <a:t>EROSI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75360" y="1874880"/>
            <a:ext cx="298296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38862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agent of erosion in this pictur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Water and w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"/>
          <p:cNvSpPr/>
          <p:nvPr/>
        </p:nvSpPr>
        <p:spPr>
          <a:xfrm>
            <a:off x="1756440" y="2084400"/>
            <a:ext cx="5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67080" y="2336760"/>
            <a:ext cx="44197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297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is the agent of erosion in this pic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.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4280" y="20844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4865"/>
          <a:stretch/>
        </p:blipFill>
        <p:spPr>
          <a:xfrm>
            <a:off x="2971800" y="2362320"/>
            <a:ext cx="5715000" cy="359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1" name=""/>
          <p:cNvSpPr/>
          <p:nvPr/>
        </p:nvSpPr>
        <p:spPr>
          <a:xfrm>
            <a:off x="469080" y="19810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6553080" cy="43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59560" y="2666880"/>
            <a:ext cx="203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3 typ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rosion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aking pla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E. W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5120" y="6400800"/>
            <a:ext cx="32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4 - 2005.  M. J. Krech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EN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6" name=""/>
          <p:cNvSpPr/>
          <p:nvPr/>
        </p:nvSpPr>
        <p:spPr>
          <a:xfrm>
            <a:off x="469080" y="19810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6553080" cy="43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574200" y="2590920"/>
            <a:ext cx="1482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5120" y="6400800"/>
            <a:ext cx="32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4 - 2005.  M. J. Krech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2286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Erosion is the movement of weathered r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and soil particles from one place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0663"/>
          <a:stretch/>
        </p:blipFill>
        <p:spPr>
          <a:xfrm>
            <a:off x="1676520" y="2209680"/>
            <a:ext cx="5715000" cy="3589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RE ARE FIVE AGENTS 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F EROSION.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GRAVITY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GLACIERS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WIND 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WAVES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791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2742840"/>
            <a:ext cx="395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ROSION CAUSED BY GRAVITY IS CALL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68c7"/>
                </a:solidFill>
                <a:latin typeface="Lucida Grande"/>
              </a:rPr>
              <a:t>     </a:t>
            </a:r>
            <a:r>
              <a:rPr b="1" lang="en-US" sz="4000" spc="-1" strike="noStrike">
                <a:solidFill>
                  <a:srgbClr val="3568c7"/>
                </a:solidFill>
                <a:latin typeface="Lucida Grande"/>
              </a:rPr>
              <a:t>MASS WASTING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9880" y="2128680"/>
            <a:ext cx="5029200" cy="35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: Rapid Mass Was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ne type of rapid mass wasting 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LANDSLIDE 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ich is the tumbling of dry soil and rocks downhil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4572000" cy="304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: Rapid Mass Was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403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other type 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MUDFLOW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rain mixes with the soil to form mud which  moves downhil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4800600" cy="319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: Slow Mass Was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ne type of slow mass wasting i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EARTHFLOW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re a mass of soil and plant life begin to slowly move downhill after a heavy rai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480060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: Slow Mass Was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other type 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CREEP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soil particles move slowly downhill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s is the slowes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6603" r="0" b="0"/>
          <a:stretch/>
        </p:blipFill>
        <p:spPr>
          <a:xfrm>
            <a:off x="4724280" y="2203560"/>
            <a:ext cx="3056040" cy="4227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23:37:02Z</dcterms:created>
  <dc:creator>Eric Knapp</dc:creator>
  <dc:description/>
  <dc:language>en-US</dc:language>
  <cp:lastModifiedBy>staff</cp:lastModifiedBy>
  <dcterms:modified xsi:type="dcterms:W3CDTF">2008-01-07T15:25:31Z</dcterms:modified>
  <cp:revision>85</cp:revision>
  <dc:subject/>
  <dc:title>TYPES OF EROSION</dc:title>
</cp:coreProperties>
</file>